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5FD8-E68F-4CF8-AF78-94A63D3023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A469-BD19-41A4-B7CA-7B0EB6B954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0676-3E64-4115-B734-DED756A84A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4092-036C-44C2-A4FA-7FA3E934E8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379-655E-4E88-943B-6CED1975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A57C-0DA4-4DE1-8FA3-E866C4FA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F89-A90B-4B28-AD08-AAB00A22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AA3-65F0-40B1-A7AA-90F5D7EF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6463-84B4-4034-9D01-9846807F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5113-82C6-42A4-88B7-81C8245F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BB85-6952-45E2-BAF5-560A999C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819A-AD7A-4EE2-A7E2-9A803327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95AE-A3E7-41F4-BF5E-17917A51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DBE6-6FE9-4489-BC28-E23A4A34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EF5E-3FE1-44A5-AF10-0841733A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FE4-91F3-406C-868E-47A6B21D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526F-A55F-4300-A42B-D92F6226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282B-82DB-45DC-AE9D-D4D89F1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F3EE-853B-4614-954C-495DB723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8551-60D8-4A0A-8AAF-962CCB28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F916-CCC3-4BD5-B37A-2C48CDBF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A8CA0-F226-4FFF-AB0B-C03F364A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1B6AC1-689E-4911-A077-0C47E9E2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F5853-E6E0-47D9-9792-F4A2C47D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77803-F106-4F02-A9DD-758B69F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02F41-B191-409E-8DF2-D6917A1F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4D5-4F50-4A18-83EF-3F09EB9B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7889C-B6FA-400A-8819-79CEFE57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806B0-0C69-472D-8145-3E652D5B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C4232-CC89-4079-B328-D710D890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A118C-5569-479A-B4C6-59A5F6B4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229AA-3BCE-435E-BB03-0DC613B2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03654-A794-4757-B472-7DCBFC97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658A3-CB79-497E-A7F6-F8566909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27F7-6A4F-46DA-96F1-44425500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14B5-DE36-4BFE-A6D1-3ED0AA88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1985D-3D0B-4D86-B230-D6E56561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3A5-93CB-41F5-BC65-C68CC910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3E7B7-F3F7-4F32-9284-A9A83FB3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2B46F-8428-404F-A380-4CF46A08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64AE3-E4CC-421D-BAEF-1CB66A58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4C5C1-2488-466F-B57F-F197ADA2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FF6B-14DA-48BD-BD9D-24490192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8EB4C-08A3-40CC-AD00-BBBD57F1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5524C-0607-4A9E-84FA-4A2523C8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E024-5E53-4D03-B571-9030E2D4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3A40-7CAD-4714-9649-953121EA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EAC-5522-4E4B-BA34-45CA3C6D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FFE-D199-478E-B8B9-7C7087F1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612-90F5-4273-AAFD-DEA67504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C17-707D-40DC-B721-D2A0B9A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864-383D-4F66-83A2-1B25CE53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CA14-4B33-4AAD-BBF6-56D850FF30FA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tangolo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arrotondato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tangolo arrotondato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tangolo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tangolo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4CE5-9359-4F37-B4B7-48FB1B1DBD38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FAC1-F7BA-463F-947D-4FD24EA02B16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6EA0-26FE-4E9E-8A7A-4C797265E0FC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5680" y="4000680"/>
            <a:ext cx="54864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Comic Sans MS"/>
              </a:rPr>
              <a:t>Scuola dell’infanzi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Comic Sans MS"/>
              </a:rPr>
              <a:t>“</a:t>
            </a:r>
            <a:r>
              <a:rPr b="1" lang="it-IT" sz="2400" spc="-1" strike="noStrike">
                <a:solidFill>
                  <a:srgbClr val="404040"/>
                </a:solidFill>
                <a:latin typeface="Comic Sans MS"/>
              </a:rPr>
              <a:t>Pier della Francesca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D.D Empoli 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Sez .B ( 5  anni )  a.s. 2019/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            </a:t>
            </a: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Ins:   Domenici Nad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Rettangolo 3" descr=""/>
          <p:cNvPicPr/>
          <p:nvPr/>
        </p:nvPicPr>
        <p:blipFill>
          <a:blip r:embed="rId1"/>
          <a:stretch/>
        </p:blipFill>
        <p:spPr>
          <a:xfrm>
            <a:off x="469800" y="268200"/>
            <a:ext cx="8204400" cy="136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ORSO FORMAZIONE AMBITO 8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«  ARTE E DISEGNI NELLA SCUOLA DELL’INFANZIA»</a:t>
            </a:r>
            <a:endParaRPr b="0" lang="en-US" sz="1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4" name="Picture 8" descr="Risultato immagine per mandala delle stagioni"/>
          <p:cNvPicPr/>
          <p:nvPr/>
        </p:nvPicPr>
        <p:blipFill>
          <a:blip r:embed="rId2"/>
          <a:stretch/>
        </p:blipFill>
        <p:spPr>
          <a:xfrm>
            <a:off x="5435640" y="4130640"/>
            <a:ext cx="34732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Infine l’estate…</a:t>
            </a:r>
            <a:br>
              <a:rPr sz="4000"/>
            </a:br>
            <a:r>
              <a:rPr b="0" lang="it-IT" sz="2400" spc="-1" strike="noStrike">
                <a:solidFill>
                  <a:srgbClr val="04617b"/>
                </a:solidFill>
                <a:latin typeface="Comic Sans MS"/>
              </a:rPr>
              <a:t>dipinta con caldi colori</a:t>
            </a: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54" name="Immagine 2" descr=""/>
          <p:cNvPicPr/>
          <p:nvPr/>
        </p:nvPicPr>
        <p:blipFill>
          <a:blip r:embed="rId1"/>
          <a:stretch/>
        </p:blipFill>
        <p:spPr>
          <a:xfrm>
            <a:off x="5724360" y="3130560"/>
            <a:ext cx="2592720" cy="2455920"/>
          </a:xfrm>
          <a:prstGeom prst="rect">
            <a:avLst/>
          </a:prstGeom>
          <a:ln w="0">
            <a:noFill/>
          </a:ln>
        </p:spPr>
      </p:pic>
      <p:pic>
        <p:nvPicPr>
          <p:cNvPr id="255" name="Segnaposto contenuto 8" descr=""/>
          <p:cNvPicPr/>
          <p:nvPr/>
        </p:nvPicPr>
        <p:blipFill>
          <a:blip r:embed="rId2"/>
          <a:stretch/>
        </p:blipFill>
        <p:spPr>
          <a:xfrm>
            <a:off x="774720" y="2251080"/>
            <a:ext cx="3198960" cy="1589040"/>
          </a:xfrm>
          <a:prstGeom prst="rect">
            <a:avLst/>
          </a:prstGeom>
          <a:ln w="0">
            <a:noFill/>
          </a:ln>
        </p:spPr>
      </p:pic>
      <p:pic>
        <p:nvPicPr>
          <p:cNvPr id="256" name="Immagine 10" descr=""/>
          <p:cNvPicPr/>
          <p:nvPr/>
        </p:nvPicPr>
        <p:blipFill>
          <a:blip r:embed="rId3"/>
          <a:stretch/>
        </p:blipFill>
        <p:spPr>
          <a:xfrm>
            <a:off x="826920" y="4606920"/>
            <a:ext cx="3418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ticipiamo un poco questa stagione rispetto al calendario….ma non possiamo fare altrimenti….le temperatura sono alte , il giardino è rigoglioso ma i colori sono già cambiati…basta osservare l’erba che ha perduto il suo verde brilla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ccoci a scegliere ed osservare il dipinto di VAN GOG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che in questa occasione bambin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egnano le spighe ed il sole, poi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letano il lavoro : attaccan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gnetti sui raggi del sole, le  cannucce si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formano in  spighe,  il sale gros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lorato con la tempera diventa il prato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CasellaDiTesto 2"/>
          <p:cNvSpPr/>
          <p:nvPr/>
        </p:nvSpPr>
        <p:spPr>
          <a:xfrm>
            <a:off x="1295280" y="63324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000"/>
                </a:solidFill>
                <a:latin typeface="Comic Sans MS"/>
              </a:rPr>
              <a:t>E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mmagine 2" descr=""/>
          <p:cNvPicPr/>
          <p:nvPr/>
        </p:nvPicPr>
        <p:blipFill>
          <a:blip r:embed="rId1"/>
          <a:stretch/>
        </p:blipFill>
        <p:spPr>
          <a:xfrm>
            <a:off x="826920" y="3063960"/>
            <a:ext cx="25927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CasellaDiTesto 6"/>
          <p:cNvSpPr/>
          <p:nvPr/>
        </p:nvSpPr>
        <p:spPr>
          <a:xfrm>
            <a:off x="900000" y="2637000"/>
            <a:ext cx="784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nostro progetto si è concl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bambini si sono avvicinati all’arte e sono riusciti a riprodurre quadri famosi utilizzando materiali di varia na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…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esta esperienza ha voluto insinuare in loro l’idea di poter creare opere senza necessariamente rimanere ancorati alle tecniche usuali…..pensando in modo diver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888840"/>
            <a:ext cx="7842240" cy="1067040"/>
          </a:xfrm>
          <a:prstGeom prst="rect">
            <a:avLst/>
          </a:prstGeom>
          <a:solidFill>
            <a:srgbClr val="b0dfa1"/>
          </a:soli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CONCLUSIONI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2" name="Immagine 3" descr=""/>
          <p:cNvPicPr/>
          <p:nvPr/>
        </p:nvPicPr>
        <p:blipFill>
          <a:blip r:embed="rId1"/>
          <a:stretch/>
        </p:blipFill>
        <p:spPr>
          <a:xfrm>
            <a:off x="611280" y="4724280"/>
            <a:ext cx="81309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Immagine 5" descr=""/>
          <p:cNvPicPr/>
          <p:nvPr/>
        </p:nvPicPr>
        <p:blipFill>
          <a:blip r:embed="rId2"/>
          <a:stretch/>
        </p:blipFill>
        <p:spPr>
          <a:xfrm>
            <a:off x="763560" y="4876920"/>
            <a:ext cx="8131320" cy="1800000"/>
          </a:xfrm>
          <a:prstGeom prst="rect">
            <a:avLst/>
          </a:prstGeom>
          <a:ln w="0">
            <a:noFill/>
          </a:ln>
        </p:spPr>
      </p:pic>
      <p:pic>
        <p:nvPicPr>
          <p:cNvPr id="264" name="Immagine 6" descr=""/>
          <p:cNvPicPr/>
          <p:nvPr/>
        </p:nvPicPr>
        <p:blipFill>
          <a:blip r:embed="rId3"/>
          <a:stretch/>
        </p:blipFill>
        <p:spPr>
          <a:xfrm>
            <a:off x="900000" y="885960"/>
            <a:ext cx="1270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220932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esto progetto è stato ideato per sviluppare e potenziare  il pensiero divergente nei bambini della nostra sezio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efigge lo scopo di osservare e vivere le differenze sostanziali delle quattro stagioni, guardando la natura attraverso gli occhi degli artisti e dando vita a copie delle loro opere, lasciando spazio alla fantasia ed alla creatività, utilizzando non le tecniche tradizionali, ma materiali di varia natur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4617b"/>
                </a:solidFill>
                <a:latin typeface="Comic Sans MS"/>
              </a:rPr>
              <a:t>Finalità del progetto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7" name="Immagine 4" descr=""/>
          <p:cNvPicPr/>
          <p:nvPr/>
        </p:nvPicPr>
        <p:blipFill>
          <a:blip r:embed="rId1"/>
          <a:stretch/>
        </p:blipFill>
        <p:spPr>
          <a:xfrm>
            <a:off x="485640" y="911160"/>
            <a:ext cx="2016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asellaDiTesto 11"/>
          <p:cNvSpPr/>
          <p:nvPr/>
        </p:nvSpPr>
        <p:spPr>
          <a:xfrm>
            <a:off x="611280" y="3141720"/>
            <a:ext cx="807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ovendo analizzare le differenze tra le quattro stagio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rogetto si articola su tutto l’anno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bambini osservano i cambiamenti naturali del giardino della scuola, osservano alcuni dipinti per ogni stagione e realizzano i loro lav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355680"/>
            <a:ext cx="61200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Trebuchet MS"/>
              </a:rPr>
              <a:t>Durata del progett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0" name="Picture 5" descr="Risultato immagine per OROLOGIO PER BAMBINI DISEGNO"/>
          <p:cNvPicPr/>
          <p:nvPr/>
        </p:nvPicPr>
        <p:blipFill>
          <a:blip r:embed="rId1"/>
          <a:stretch/>
        </p:blipFill>
        <p:spPr>
          <a:xfrm>
            <a:off x="3860640" y="1557360"/>
            <a:ext cx="1422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L’autunno nell’arte….</a:t>
            </a:r>
            <a:br>
              <a:rPr sz="4000"/>
            </a:br>
            <a:r>
              <a:rPr b="0" lang="it-IT" sz="3200" spc="-1" strike="noStrike">
                <a:solidFill>
                  <a:srgbClr val="04617b"/>
                </a:solidFill>
                <a:latin typeface="Comic Sans MS"/>
              </a:rPr>
              <a:t>Questi i quadri presentati ai bambini…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2" name="Segnaposto contenuto 4" descr=""/>
          <p:cNvPicPr/>
          <p:nvPr/>
        </p:nvPicPr>
        <p:blipFill>
          <a:blip r:embed="rId1"/>
          <a:stretch/>
        </p:blipFill>
        <p:spPr>
          <a:xfrm>
            <a:off x="457200" y="3746520"/>
            <a:ext cx="2463840" cy="1805040"/>
          </a:xfrm>
          <a:prstGeom prst="rect">
            <a:avLst/>
          </a:prstGeom>
          <a:ln w="0">
            <a:noFill/>
          </a:ln>
        </p:spPr>
      </p:pic>
      <p:pic>
        <p:nvPicPr>
          <p:cNvPr id="233" name="Immagine 6" descr=""/>
          <p:cNvPicPr/>
          <p:nvPr/>
        </p:nvPicPr>
        <p:blipFill>
          <a:blip r:embed="rId2"/>
          <a:stretch/>
        </p:blipFill>
        <p:spPr>
          <a:xfrm>
            <a:off x="6027840" y="3732120"/>
            <a:ext cx="2444760" cy="1805040"/>
          </a:xfrm>
          <a:prstGeom prst="rect">
            <a:avLst/>
          </a:prstGeom>
          <a:ln w="0">
            <a:noFill/>
          </a:ln>
        </p:spPr>
      </p:pic>
      <p:pic>
        <p:nvPicPr>
          <p:cNvPr id="234" name="Immagine 5" descr="Visualizza immagine di origine"/>
          <p:cNvPicPr/>
          <p:nvPr/>
        </p:nvPicPr>
        <p:blipFill>
          <a:blip r:embed="rId3"/>
          <a:stretch/>
        </p:blipFill>
        <p:spPr>
          <a:xfrm>
            <a:off x="3355920" y="3860640"/>
            <a:ext cx="2236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00000"/>
                </a:solidFill>
                <a:latin typeface="Comic Sans MS"/>
              </a:rPr>
              <a:t>AUTUNNO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Rettangolo 5"/>
          <p:cNvSpPr/>
          <p:nvPr/>
        </p:nvSpPr>
        <p:spPr>
          <a:xfrm>
            <a:off x="4416120" y="3244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il mese di ottobre, iniziamo ad osservare il nostro giardino, che presenta i primi segni caratteristici dell’autunn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sezione osserviamo alcuni quadri dove i colori  dell’autunno sono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olto  definiti: i bambini hann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elto di riprodurre quest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aver fatto realizzare il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egno dell’albero sul pra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gniamo ai bambini i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ottoni colorati per completa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loro quadro personale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Immagine 5" descr="Visualizza immagine di origine"/>
          <p:cNvPicPr/>
          <p:nvPr/>
        </p:nvPicPr>
        <p:blipFill>
          <a:blip r:embed="rId1"/>
          <a:stretch/>
        </p:blipFill>
        <p:spPr>
          <a:xfrm>
            <a:off x="1814400" y="3244680"/>
            <a:ext cx="261324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L’inverno : </a:t>
            </a:r>
            <a:br>
              <a:rPr sz="4000"/>
            </a:br>
            <a:r>
              <a:rPr b="0" lang="it-IT" sz="2800" spc="-1" strike="noStrike">
                <a:solidFill>
                  <a:srgbClr val="04617b"/>
                </a:solidFill>
                <a:latin typeface="Comic Sans MS"/>
              </a:rPr>
              <a:t>queste le opere presentate……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0" name="Segnaposto contenuto 4" descr=""/>
          <p:cNvPicPr/>
          <p:nvPr/>
        </p:nvPicPr>
        <p:blipFill>
          <a:blip r:embed="rId1"/>
          <a:stretch/>
        </p:blipFill>
        <p:spPr>
          <a:xfrm>
            <a:off x="755640" y="2644920"/>
            <a:ext cx="2838600" cy="1990440"/>
          </a:xfrm>
          <a:prstGeom prst="rect">
            <a:avLst/>
          </a:prstGeom>
          <a:ln w="0">
            <a:noFill/>
          </a:ln>
        </p:spPr>
      </p:pic>
      <p:pic>
        <p:nvPicPr>
          <p:cNvPr id="241" name="Immagine 6" descr=""/>
          <p:cNvPicPr/>
          <p:nvPr/>
        </p:nvPicPr>
        <p:blipFill>
          <a:blip r:embed="rId2"/>
          <a:stretch/>
        </p:blipFill>
        <p:spPr>
          <a:xfrm>
            <a:off x="3581280" y="4648320"/>
            <a:ext cx="2847960" cy="1885680"/>
          </a:xfrm>
          <a:prstGeom prst="rect">
            <a:avLst/>
          </a:prstGeom>
          <a:ln w="0">
            <a:noFill/>
          </a:ln>
        </p:spPr>
      </p:pic>
      <p:pic>
        <p:nvPicPr>
          <p:cNvPr id="242" name="Immagine 6" descr="Visualizza immagine di origine"/>
          <p:cNvPicPr/>
          <p:nvPr/>
        </p:nvPicPr>
        <p:blipFill>
          <a:blip r:embed="rId3"/>
          <a:stretch/>
        </p:blipFill>
        <p:spPr>
          <a:xfrm>
            <a:off x="6300720" y="2658960"/>
            <a:ext cx="26496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88760" y="692280"/>
            <a:ext cx="569124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INVERN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16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il periodo natalizio, affrontiamo la stagione invernale e anche in questa occasione , dopo le dovute considerazioni sui cambiamenti visibili nel giardino , i bambini  scelgono un quadro di MUNC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giardino non c’è neve ma molti d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ro hanno trascorso le vacanze i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ontagna e tutti sono volati, c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fantasia , al polo da Babb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atale .La neve quindi è l’eleme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vernale per eccellenza…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aver tracciato il loro disegn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l’aiuto di tempera e schiuma d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arba , i bambini hanno dipinto i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ro quadro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Immagine 6" descr="Visualizza immagine di origine"/>
          <p:cNvPicPr/>
          <p:nvPr/>
        </p:nvPicPr>
        <p:blipFill>
          <a:blip r:embed="rId1"/>
          <a:stretch/>
        </p:blipFill>
        <p:spPr>
          <a:xfrm>
            <a:off x="684360" y="2976480"/>
            <a:ext cx="36064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La primavera:</a:t>
            </a:r>
            <a:br>
              <a:rPr sz="4000"/>
            </a:br>
            <a:r>
              <a:rPr b="0" lang="it-IT" sz="2400" spc="-1" strike="noStrike">
                <a:solidFill>
                  <a:srgbClr val="04617b"/>
                </a:solidFill>
                <a:latin typeface="Comic Sans MS"/>
              </a:rPr>
              <a:t>alcuni quadri presentati ai bambini</a:t>
            </a: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7" name="Segnaposto contenuto 4" descr=""/>
          <p:cNvPicPr/>
          <p:nvPr/>
        </p:nvPicPr>
        <p:blipFill>
          <a:blip r:embed="rId1"/>
          <a:stretch/>
        </p:blipFill>
        <p:spPr>
          <a:xfrm>
            <a:off x="6227640" y="4648320"/>
            <a:ext cx="2600280" cy="192384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4" descr="Risultato immagine per LEONNE CHRISTIE  PRIMAVERA"/>
          <p:cNvPicPr/>
          <p:nvPr/>
        </p:nvPicPr>
        <p:blipFill>
          <a:blip r:embed="rId2"/>
          <a:stretch/>
        </p:blipFill>
        <p:spPr>
          <a:xfrm>
            <a:off x="250920" y="2481120"/>
            <a:ext cx="2881080" cy="1863720"/>
          </a:xfrm>
          <a:prstGeom prst="rect">
            <a:avLst/>
          </a:prstGeom>
          <a:ln w="0">
            <a:noFill/>
          </a:ln>
        </p:spPr>
      </p:pic>
      <p:pic>
        <p:nvPicPr>
          <p:cNvPr id="249" name="Immagine 7" descr=""/>
          <p:cNvPicPr/>
          <p:nvPr/>
        </p:nvPicPr>
        <p:blipFill>
          <a:blip r:embed="rId3"/>
          <a:stretch/>
        </p:blipFill>
        <p:spPr>
          <a:xfrm>
            <a:off x="3333600" y="3933720"/>
            <a:ext cx="24768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it-IT" sz="4000" spc="-1" strike="noStrike">
                <a:solidFill>
                  <a:srgbClr val="00b050"/>
                </a:solidFill>
                <a:latin typeface="Comic Sans MS"/>
              </a:rPr>
              <a:t>PRIMAVER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esta è la stagione dove tutto si rinnova e gli alberi del giardino si rivestono di foglie e fiori, il prato si colora di margherite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questa occasione i bambini scelgono di dipingere questo quadro    utilizzando gli acquerelli  per realizzare il cielo ed il prato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 seguito hanno aggiu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fiori utilizzando tappi di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lastica e palline di pasta di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ale preparat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cedenteme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Immagine 4" descr="Risultato immagine per LEONNE CHRISTIE  PRIMAVERA"/>
          <p:cNvPicPr/>
          <p:nvPr/>
        </p:nvPicPr>
        <p:blipFill>
          <a:blip r:embed="rId1"/>
          <a:stretch/>
        </p:blipFill>
        <p:spPr>
          <a:xfrm>
            <a:off x="755640" y="3645000"/>
            <a:ext cx="4173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0:31:20Z</dcterms:created>
  <dc:creator>utente</dc:creator>
  <dc:description/>
  <dc:language>en-US</dc:language>
  <cp:lastModifiedBy>Admin</cp:lastModifiedBy>
  <dcterms:modified xsi:type="dcterms:W3CDTF">2019-10-02T18:20:12Z</dcterms:modified>
  <cp:revision>73</cp:revision>
  <dc:subject/>
  <dc:title>La matematica nel quotidiano</dc:title>
</cp:coreProperties>
</file>